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5763" cy="9871075"/>
  <p:custShowLst>
    <p:custShow name="Full" id="0">
      <p:sldLst>
        <p:sld r:id="rId4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F518-F1C5-4D29-83C2-5FFC73842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05D4-D7C5-4CEE-A652-054BEBD25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1186-F0C5-4ABF-9873-D53F113A1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948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520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412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5948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520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AD23-6EB6-41D3-A703-0230FE04A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8840" y="295200"/>
            <a:ext cx="7724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E48D-2FFD-43C0-99EF-7B7135830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5948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520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8412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5948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520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1847-4CAF-4E57-8993-14A1CBC78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6680-EBC8-403D-A570-FB08120AC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7747-E7AA-4934-B4BF-31ECD8777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88840" y="295200"/>
            <a:ext cx="7724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677E-6AA3-490F-8915-F80085A3A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9C23-1BA1-4E46-91B7-66DE0162D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71D2-FA12-4734-B599-71E7C863F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E7A5-42AD-44CB-955E-9BCD38324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79400" y="6365880"/>
            <a:ext cx="33228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220240" y="6095880"/>
            <a:ext cx="712800" cy="596880"/>
            <a:chOff x="8220240" y="6095880"/>
            <a:chExt cx="712800" cy="596880"/>
          </a:xfrm>
        </p:grpSpPr>
        <p:sp>
          <p:nvSpPr>
            <p:cNvPr id="2" name=""/>
            <p:cNvSpPr/>
            <p:nvPr/>
          </p:nvSpPr>
          <p:spPr>
            <a:xfrm>
              <a:off x="8514000" y="6288120"/>
              <a:ext cx="419040" cy="404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220240" y="6095880"/>
              <a:ext cx="419040" cy="405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lnSpc>
                <a:spcPct val="90000"/>
              </a:lnSpc>
              <a:spcBef>
                <a:spcPts val="1800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31840">
              <a:lnSpc>
                <a:spcPct val="90000"/>
              </a:lnSpc>
              <a:spcBef>
                <a:spcPts val="1800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7560" indent="-172800">
              <a:lnSpc>
                <a:spcPct val="90000"/>
              </a:lnSpc>
              <a:spcBef>
                <a:spcPts val="1800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7560" indent="-172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7560" indent="-172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1360"/>
            <a:ext cx="746280" cy="352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52280" y="500040"/>
            <a:ext cx="584280" cy="291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72240" y="2149560"/>
            <a:ext cx="3371760" cy="470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72240" y="2149560"/>
            <a:ext cx="3371760" cy="4708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01720" y="1947960"/>
            <a:ext cx="52686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Arial Narro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84400" y="2852640"/>
            <a:ext cx="7619760" cy="952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 algn="ctr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31840" algn="ctr">
              <a:spcBef>
                <a:spcPts val="675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17560" indent="-172800" algn="ctr">
              <a:spcBef>
                <a:spcPts val="675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17560" indent="-172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17560" indent="-172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assport.com/Consumer/Default.asp?PPlcid=1033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bcentral.com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lc7.law5.hotmail.passport.com/cgi-bin/login?_lang=EN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810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cc00"/>
                </a:solidFill>
                <a:latin typeface="Times New Roman"/>
              </a:rPr>
              <a:t>Context and Remoting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4290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dule Sub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2498760" y="430380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ilding distributed applications 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ing attribute-driven behavior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Microsoft .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Remoting Context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21840"/>
            <a:ext cx="73216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COM+ context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Remoting Context != COM+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es objects with same functional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shared properties that describ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280" y="3781440"/>
            <a:ext cx="3962160" cy="2847600"/>
            <a:chOff x="152280" y="3781440"/>
            <a:chExt cx="3962160" cy="2847600"/>
          </a:xfrm>
        </p:grpSpPr>
        <p:sp>
          <p:nvSpPr>
            <p:cNvPr id="172" name=""/>
            <p:cNvSpPr/>
            <p:nvPr/>
          </p:nvSpPr>
          <p:spPr>
            <a:xfrm>
              <a:off x="1452240" y="3781440"/>
              <a:ext cx="2662200" cy="2600280"/>
            </a:xfrm>
            <a:prstGeom prst="flowChartAlternateProcess">
              <a:avLst/>
            </a:prstGeom>
            <a:solidFill>
              <a:srgbClr val="618ff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3760" y="6133680"/>
              <a:ext cx="556920" cy="495360"/>
            </a:xfrm>
            <a:prstGeom prst="flowChartConnector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qTx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4880" y="6133680"/>
              <a:ext cx="556920" cy="495360"/>
            </a:xfrm>
            <a:prstGeom prst="flowChartConnector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86000" y="6133680"/>
              <a:ext cx="556920" cy="495360"/>
            </a:xfrm>
            <a:prstGeom prst="flowChartConnector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hrd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90680" y="4524120"/>
              <a:ext cx="123480" cy="1114200"/>
            </a:xfrm>
            <a:prstGeom prst="rect">
              <a:avLst/>
            </a:prstGeom>
            <a:solidFill>
              <a:srgbClr val="a5002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280" y="4276440"/>
              <a:ext cx="928440" cy="681120"/>
            </a:xfrm>
            <a:prstGeom prst="wedgeRectCallout">
              <a:avLst>
                <a:gd name="adj1" fmla="val 91666"/>
                <a:gd name="adj2" fmla="val 8143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emoting boundary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2071440" y="4152600"/>
              <a:ext cx="990360" cy="680760"/>
              <a:chOff x="2071440" y="4152600"/>
              <a:chExt cx="990360" cy="680760"/>
            </a:xfrm>
          </p:grpSpPr>
          <p:sp>
            <p:nvSpPr>
              <p:cNvPr id="179" name=""/>
              <p:cNvSpPr/>
              <p:nvPr/>
            </p:nvSpPr>
            <p:spPr>
              <a:xfrm>
                <a:off x="2368440" y="4152600"/>
                <a:ext cx="693360" cy="680760"/>
              </a:xfrm>
              <a:prstGeom prst="flowChartProcess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1440" y="419616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219760" y="428364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1440" y="441432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219760" y="450144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814480" y="5019480"/>
              <a:ext cx="990360" cy="681120"/>
              <a:chOff x="2814480" y="5019480"/>
              <a:chExt cx="990360" cy="681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5019480"/>
                <a:ext cx="693360" cy="681120"/>
              </a:xfrm>
              <a:prstGeom prst="flowChartProcess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14480" y="506304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962800" y="515052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4480" y="528156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962800" y="536868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699920" y="5205240"/>
              <a:ext cx="990360" cy="681120"/>
              <a:chOff x="1699920" y="5205240"/>
              <a:chExt cx="990360" cy="681120"/>
            </a:xfrm>
          </p:grpSpPr>
          <p:sp>
            <p:nvSpPr>
              <p:cNvPr id="191" name=""/>
              <p:cNvSpPr/>
              <p:nvPr/>
            </p:nvSpPr>
            <p:spPr>
              <a:xfrm>
                <a:off x="1996920" y="5205240"/>
                <a:ext cx="693360" cy="681120"/>
              </a:xfrm>
              <a:prstGeom prst="flowChartProcess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99920" y="524880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848240" y="533628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99920" y="546732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848240" y="555444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548320" y="4876920"/>
            <a:ext cx="131760" cy="1172880"/>
          </a:xfrm>
          <a:prstGeom prst="rect">
            <a:avLst/>
          </a:prstGeom>
          <a:solidFill>
            <a:srgbClr val="a5002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705120"/>
            <a:ext cx="4038480" cy="2800440"/>
          </a:xfrm>
          <a:prstGeom prst="rect">
            <a:avLst/>
          </a:pr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832280" y="4160880"/>
            <a:ext cx="1629000" cy="1888920"/>
          </a:xfrm>
          <a:custGeom>
            <a:avLst/>
            <a:gdLst>
              <a:gd name="textAreaLeft" fmla="*/ 79200 w 1629000"/>
              <a:gd name="textAreaRight" fmla="*/ 1549800 w 1629000"/>
              <a:gd name="textAreaTop" fmla="*/ 79200 h 1888920"/>
              <a:gd name="textAreaBottom" fmla="*/ 1809720 h 1888920"/>
            </a:gdLst>
            <a:ahLst/>
            <a:rect l="textAreaLeft" t="textAreaTop" r="textAreaRight" b="textAreaBottom"/>
            <a:pathLst>
              <a:path w="21600" h="25046">
                <a:moveTo>
                  <a:pt x="3600" y="0"/>
                </a:moveTo>
                <a:arcTo wR="3600" hR="3600" stAng="16200000" swAng="-5400000"/>
                <a:lnTo>
                  <a:pt x="0" y="21446"/>
                </a:lnTo>
                <a:arcTo wR="3600" hR="3600" stAng="10800000" swAng="-5400000"/>
                <a:lnTo>
                  <a:pt x="18000" y="25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6656400" y="4160880"/>
            <a:ext cx="1628640" cy="1888920"/>
          </a:xfrm>
          <a:custGeom>
            <a:avLst/>
            <a:gdLst>
              <a:gd name="textAreaLeft" fmla="*/ 79200 w 1628640"/>
              <a:gd name="textAreaRight" fmla="*/ 1549440 w 1628640"/>
              <a:gd name="textAreaTop" fmla="*/ 79200 h 1888920"/>
              <a:gd name="textAreaBottom" fmla="*/ 1809720 h 1888920"/>
            </a:gdLst>
            <a:ahLst/>
            <a:rect l="textAreaLeft" t="textAreaTop" r="textAreaRight" b="textAreaBottom"/>
            <a:pathLst>
              <a:path w="21600" h="25051">
                <a:moveTo>
                  <a:pt x="3600" y="0"/>
                </a:moveTo>
                <a:arcTo wR="3600" hR="3600" stAng="16200000" swAng="-5400000"/>
                <a:lnTo>
                  <a:pt x="0" y="21451"/>
                </a:lnTo>
                <a:arcTo wR="3600" hR="3600" stAng="10800000" swAng="-5400000"/>
                <a:lnTo>
                  <a:pt x="18000" y="25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5288040" y="461628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461628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5483160" y="5268960"/>
            <a:ext cx="717480" cy="5205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7176960" y="5305320"/>
            <a:ext cx="717840" cy="52092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04" name=""/>
          <p:cNvCxnSpPr>
            <a:stCxn id="200" idx="1"/>
            <a:endCxn id="202" idx="1"/>
          </p:cNvCxnSpPr>
          <p:nvPr/>
        </p:nvCxnSpPr>
        <p:spPr>
          <a:xfrm flipH="1" flipV="1" rot="10800000">
            <a:off x="5263920" y="4876560"/>
            <a:ext cx="195840" cy="653040"/>
          </a:xfrm>
          <a:prstGeom prst="curvedConnector5">
            <a:avLst>
              <a:gd name="adj1" fmla="val -87476"/>
              <a:gd name="adj2" fmla="val 49972"/>
              <a:gd name="adj3" fmla="val -87476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05" name=""/>
          <p:cNvCxnSpPr>
            <a:stCxn id="201" idx="3"/>
            <a:endCxn id="203" idx="1"/>
          </p:cNvCxnSpPr>
          <p:nvPr/>
        </p:nvCxnSpPr>
        <p:spPr>
          <a:xfrm flipH="1">
            <a:off x="7147800" y="4878000"/>
            <a:ext cx="710280" cy="687960"/>
          </a:xfrm>
          <a:prstGeom prst="curvedConnector5">
            <a:avLst>
              <a:gd name="adj1" fmla="val -28144"/>
              <a:gd name="adj2" fmla="val 24921"/>
              <a:gd name="adj3" fmla="val -28144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0" idx="3"/>
            <a:endCxn id="201" idx="1"/>
          </p:cNvCxnSpPr>
          <p:nvPr/>
        </p:nvCxnSpPr>
        <p:spPr>
          <a:xfrm>
            <a:off x="6028920" y="4876560"/>
            <a:ext cx="1059480" cy="10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373800" y="4746600"/>
            <a:ext cx="390600" cy="260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18148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What is “Remote”, What is” Local”?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ocal" are all objects within the same App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objects are "Remo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objects in the same proces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bound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Local" if they share the same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Remote" if they are in different contex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ocal": Not marshaled, immediate objec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Remote": Marshaled, calls through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2: Remoting Architecture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5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For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ing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What to communicate: Messag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478640" cy="385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s are objects that implement I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ssage: Simple dictionary of key/values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Messag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ion call messages, response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call messages, response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: Request with immediate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: Request with delayed or no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181480" y="4876920"/>
            <a:ext cx="2057400" cy="17524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5486400"/>
            <a:ext cx="533520" cy="533520"/>
          </a:xfrm>
          <a:prstGeom prst="rect">
            <a:avLst/>
          </a:prstGeom>
          <a:solidFill>
            <a:srgbClr val="a50021">
              <a:alpha val="50000"/>
            </a:srgbClr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Where to communicate: Channel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131480"/>
            <a:ext cx="7726320" cy="35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nels transp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ilt-in channels: TCP, 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endpoint-to-endpoin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nels can listen for and send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sten: IChannelReceiver, Send: IChannel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s no assumptions about endpoin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lement channel sinks for logging,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4876920"/>
            <a:ext cx="1904760" cy="16761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800600"/>
            <a:ext cx="2209680" cy="1905120"/>
          </a:xfrm>
          <a:prstGeom prst="rightArrow">
            <a:avLst>
              <a:gd name="adj1" fmla="val 50000"/>
              <a:gd name="adj2" fmla="val 48886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86200" y="556272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14600" y="548640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"Proxy"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5486400"/>
            <a:ext cx="304920" cy="533520"/>
          </a:xfrm>
          <a:prstGeom prst="rect">
            <a:avLst/>
          </a:prstGeom>
          <a:solidFill>
            <a:srgbClr val="a50021">
              <a:alpha val="50000"/>
            </a:srgbClr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5753160"/>
            <a:ext cx="380880" cy="144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548640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-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ch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574056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How to communicate: Formatter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321680" cy="285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ters serialize .NET objects into wir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dynamically by channe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tion-file based association with chann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ormatters are implemented as channel s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: SOAP and Binary For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ystem.Runtime.Remoting.Serialization.For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76520" y="4286160"/>
            <a:ext cx="5866920" cy="2285640"/>
            <a:chOff x="1676520" y="4286160"/>
            <a:chExt cx="5866920" cy="2285640"/>
          </a:xfrm>
        </p:grpSpPr>
        <p:sp>
          <p:nvSpPr>
            <p:cNvPr id="235" name=""/>
            <p:cNvSpPr/>
            <p:nvPr/>
          </p:nvSpPr>
          <p:spPr>
            <a:xfrm>
              <a:off x="1676520" y="4714920"/>
              <a:ext cx="533160" cy="1485720"/>
            </a:xfrm>
            <a:prstGeom prst="rect">
              <a:avLst/>
            </a:prstGeom>
            <a:solidFill>
              <a:srgbClr val="618ff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0280" y="4800240"/>
              <a:ext cx="533160" cy="1314360"/>
            </a:xfrm>
            <a:prstGeom prst="rect">
              <a:avLst/>
            </a:prstGeom>
            <a:solidFill>
              <a:srgbClr val="618ff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02320" y="4400640"/>
              <a:ext cx="5393160" cy="2114280"/>
            </a:xfrm>
            <a:prstGeom prst="rightArrow">
              <a:avLst>
                <a:gd name="adj1" fmla="val 51750"/>
                <a:gd name="adj2" fmla="val 80327"/>
              </a:avLst>
            </a:prstGeom>
            <a:solidFill>
              <a:srgbClr val="ffffff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328120" y="5287320"/>
              <a:ext cx="592560" cy="3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6141240" y="5293440"/>
              <a:ext cx="572760" cy="3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913400" y="5143320"/>
              <a:ext cx="236520" cy="628560"/>
            </a:xfrm>
            <a:prstGeom prst="flowChartProcess">
              <a:avLst/>
            </a:prstGeom>
            <a:solidFill>
              <a:srgbClr val="a50021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17320" y="5200560"/>
              <a:ext cx="592560" cy="514080"/>
            </a:xfrm>
            <a:prstGeom prst="flowChartExtra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95000" y="5171760"/>
              <a:ext cx="651960" cy="571320"/>
            </a:xfrm>
            <a:prstGeom prst="flowChartMerg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21040" y="5457960"/>
              <a:ext cx="4147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9480" y="5457960"/>
              <a:ext cx="6516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20000">
              <a:off x="3974040" y="4942080"/>
              <a:ext cx="703440" cy="1032120"/>
            </a:xfrm>
            <a:prstGeom prst="lightningBol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69080" y="6114960"/>
              <a:ext cx="1422360" cy="456840"/>
            </a:xfrm>
            <a:prstGeom prst="wedgeRectCallout">
              <a:avLst>
                <a:gd name="adj1" fmla="val 34462"/>
                <a:gd name="adj2" fmla="val -15390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e into wire format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87720" y="4286160"/>
              <a:ext cx="1422360" cy="457200"/>
            </a:xfrm>
            <a:prstGeom prst="wedgeRectCallout">
              <a:avLst>
                <a:gd name="adj1" fmla="val 38106"/>
                <a:gd name="adj2" fmla="val 16458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ode from wire format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87520" y="4286160"/>
              <a:ext cx="1422360" cy="457200"/>
            </a:xfrm>
            <a:prstGeom prst="wedgeRectCallout">
              <a:avLst>
                <a:gd name="adj1" fmla="val 65018"/>
                <a:gd name="adj2" fmla="val 19921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AP, Binary, Custom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lecting Channels: TcpChanne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97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.Runtime.Remoting.Channels.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lain TC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compact, binary wir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default, serialized by the BinaryFor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NET native wire-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custom formatters for other wire-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hoice for LA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ses permanent socket conn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mmended for Interne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lecting Channels: HttpChanne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97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.Runtime.Remoting.Channels.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TTP 1.1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SOAP 1.1 XM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ized by SoapFor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for W3C SOAP/XMLP Protocol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custom formatters for other wire-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hoice for Interne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eless protocol, scale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hoice for interoperability an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lecting Channels: Custom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241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your own Protocol (APPC,IPX,Pipes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any format that 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use SoapFormatter or BinaryFor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bring your own formatter: IIOP, RMI, ORPC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integratio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Message Box: IMessageSink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321320" cy="32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Sinks are the .NET message drop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channels to accep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context properties for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uilding chains of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inked list through NextSink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s can be intercepted, modified or processed anywhere in th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800600"/>
            <a:ext cx="3352680" cy="16765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4648320"/>
            <a:ext cx="2209680" cy="2057400"/>
          </a:xfrm>
          <a:prstGeom prst="rightArrow">
            <a:avLst>
              <a:gd name="adj1" fmla="val 50000"/>
              <a:gd name="adj2" fmla="val 45268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943600" y="548640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14600" y="541008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"Proxy"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410080"/>
            <a:ext cx="3049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676840"/>
            <a:ext cx="380880" cy="18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410080"/>
            <a:ext cx="16002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Message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563868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95880"/>
            <a:ext cx="3429000" cy="609840"/>
          </a:xfrm>
          <a:prstGeom prst="wedgeRoundRectCallout">
            <a:avLst>
              <a:gd name="adj1" fmla="val 35138"/>
              <a:gd name="adj2" fmla="val -85939"/>
              <a:gd name="adj3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hProcessMessage(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 AsynchProcessMessag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iv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474920"/>
            <a:ext cx="7767720" cy="18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the .NET Remoting cor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extensibility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on the transport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through the Remoting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s To Go: Marshaling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321320" cy="474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Packaging Data for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bjects passed as arguments, retur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-By-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re object is packaged as-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is transferred to 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ink between copy and 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-By-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reference to an object is pack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is transferred to 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Proxy" object links destination with 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cepts: Agile and Contextfu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8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of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ed directly from any AppDomain or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use chann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bound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between AppDomains, marsha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Domain-Bound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 in a single AppDomain, marshal-by-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fu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nd to AppDoma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shal-by-reference outside of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s calling Objects: Proxi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21680" cy="46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oxy"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that acts locally on behalf of a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s like and accepts calls as if it were "real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s them to the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herit System.Runtime.Remoting.RealPro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communication layer for transparent prox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t dynamically through RealProx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ct pass-through mirror of the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76520" y="1219320"/>
            <a:ext cx="3352680" cy="16761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429000"/>
            <a:ext cx="5638680" cy="3124080"/>
          </a:xfrm>
          <a:prstGeom prst="wedgeRectCallout">
            <a:avLst>
              <a:gd name="adj1" fmla="val -12638"/>
              <a:gd name="adj2" fmla="val -81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 flipH="1" rot="2263200">
            <a:off x="2869560" y="3733920"/>
            <a:ext cx="2387520" cy="761760"/>
          </a:xfrm>
          <a:custGeom>
            <a:avLst/>
            <a:gdLst>
              <a:gd name="textAreaLeft" fmla="*/ 412560 w 2387520"/>
              <a:gd name="textAreaRight" fmla="*/ 1763640 w 23875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9" hR="21600" stAng="10800000" swAng="5400000"/>
                <a:lnTo>
                  <a:pt x="12221" y="0"/>
                </a:lnTo>
                <a:arcTo wR="7459" hR="21600" stAng="-5400000" swAng="1658900"/>
                <a:lnTo>
                  <a:pt x="20369" y="9712"/>
                </a:lnTo>
                <a:lnTo>
                  <a:pt x="17299" y="21600"/>
                </a:lnTo>
                <a:lnTo>
                  <a:pt x="11767" y="9712"/>
                </a:lnTo>
                <a:lnTo>
                  <a:pt x="13687" y="9712"/>
                </a:lnTo>
                <a:arcTo wR="7459" hR="21600" stAng="-3741100" swAng="-1260822"/>
                <a:lnTo>
                  <a:pt x="9840" y="1130"/>
                </a:lnTo>
                <a:arcTo wR="7459" hR="21600" stAng="-5798079" swAng="-5001921"/>
                <a:close/>
              </a:path>
              <a:path fill="darkenLess" w="21600" h="21600">
                <a:moveTo>
                  <a:pt x="0" y="21600"/>
                </a:moveTo>
                <a:arcTo wR="7459" hR="21600" stAng="10800000" swAng="5400000"/>
                <a:lnTo>
                  <a:pt x="7459" y="0"/>
                </a:lnTo>
                <a:arcTo wR="7459" hR="21600" stAng="-5400000" swAng="398079"/>
                <a:lnTo>
                  <a:pt x="9840" y="1130"/>
                </a:lnTo>
                <a:arcTo wR="7459" hR="21600" stAng="-5798079" swAng="-5001921"/>
                <a:close/>
              </a:path>
            </a:pathLst>
          </a:cu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1219320"/>
            <a:ext cx="1066680" cy="17524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7391520" y="1828800"/>
            <a:ext cx="53316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Proxies illustrated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1066680"/>
            <a:ext cx="2209680" cy="2057400"/>
          </a:xfrm>
          <a:prstGeom prst="rightArrow">
            <a:avLst>
              <a:gd name="adj1" fmla="val 50000"/>
              <a:gd name="adj2" fmla="val 45268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14600" y="182880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"Proxy"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1828800"/>
            <a:ext cx="3049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209556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1828800"/>
            <a:ext cx="16002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Message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205740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3657600"/>
            <a:ext cx="1447560" cy="266688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paren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Prox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15296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A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453384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B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915080"/>
            <a:ext cx="121932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Q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529596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567684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6058080"/>
            <a:ext cx="121932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495680"/>
            <a:ext cx="762120" cy="114300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93" name=""/>
          <p:cNvCxnSpPr>
            <a:stCxn id="286" idx="3"/>
            <a:endCxn id="292" idx="1"/>
          </p:cNvCxnSpPr>
          <p:nvPr/>
        </p:nvCxnSpPr>
        <p:spPr>
          <a:xfrm>
            <a:off x="2362320" y="4304880"/>
            <a:ext cx="1953000" cy="76284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7" idx="3"/>
            <a:endCxn id="292" idx="1"/>
          </p:cNvCxnSpPr>
          <p:nvPr/>
        </p:nvCxnSpPr>
        <p:spPr>
          <a:xfrm>
            <a:off x="2362320" y="4686480"/>
            <a:ext cx="1953000" cy="38160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8" idx="3"/>
            <a:endCxn id="292" idx="1"/>
          </p:cNvCxnSpPr>
          <p:nvPr/>
        </p:nvCxnSpPr>
        <p:spPr>
          <a:xfrm>
            <a:off x="2362320" y="5067000"/>
            <a:ext cx="195300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9" idx="3"/>
            <a:endCxn id="292" idx="1"/>
          </p:cNvCxnSpPr>
          <p:nvPr/>
        </p:nvCxnSpPr>
        <p:spPr>
          <a:xfrm flipV="1">
            <a:off x="2362320" y="5067000"/>
            <a:ext cx="1953000" cy="38160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0" idx="3"/>
            <a:endCxn id="292" idx="1"/>
          </p:cNvCxnSpPr>
          <p:nvPr/>
        </p:nvCxnSpPr>
        <p:spPr>
          <a:xfrm flipV="1">
            <a:off x="2362320" y="5066640"/>
            <a:ext cx="1953000" cy="76284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1" idx="3"/>
            <a:endCxn id="292" idx="1"/>
          </p:cNvCxnSpPr>
          <p:nvPr/>
        </p:nvCxnSpPr>
        <p:spPr>
          <a:xfrm flipV="1">
            <a:off x="2362320" y="5066640"/>
            <a:ext cx="1953000" cy="114372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5994360" y="4495680"/>
            <a:ext cx="380880" cy="12193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5079960"/>
            <a:ext cx="876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430524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468648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506736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544824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582948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621036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4038480"/>
            <a:ext cx="10666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il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4724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vok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867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ProcessMessag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57440" y="52578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Dispatcher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2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ted at the channel end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s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s stack-frame from message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kes actual method o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s result and creates response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800600" y="1219320"/>
            <a:ext cx="3048120" cy="17524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1828800"/>
            <a:ext cx="5335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1828800"/>
            <a:ext cx="16002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2108160"/>
            <a:ext cx="53352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Dispatcher illustrated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1219320"/>
            <a:ext cx="990360" cy="16761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3429000"/>
            <a:ext cx="5638680" cy="3124080"/>
          </a:xfrm>
          <a:prstGeom prst="wedgeRectCallout">
            <a:avLst>
              <a:gd name="adj1" fmla="val 39245"/>
              <a:gd name="adj2" fmla="val -83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1828800"/>
            <a:ext cx="5335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2108160"/>
            <a:ext cx="5331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1066680"/>
            <a:ext cx="2210040" cy="2057400"/>
          </a:xfrm>
          <a:prstGeom prst="rightArrow">
            <a:avLst>
              <a:gd name="adj1" fmla="val 50000"/>
              <a:gd name="adj2" fmla="val 45275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3670200"/>
            <a:ext cx="1447920" cy="266724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416556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A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454644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B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4927680"/>
            <a:ext cx="121896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Q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530856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4191120" y="568944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6070680"/>
            <a:ext cx="121896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508640"/>
            <a:ext cx="1905120" cy="114300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ckBuilder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31" name=""/>
          <p:cNvCxnSpPr>
            <a:stCxn id="324" idx="1"/>
            <a:endCxn id="330" idx="3"/>
          </p:cNvCxnSpPr>
          <p:nvPr/>
        </p:nvCxnSpPr>
        <p:spPr>
          <a:xfrm flipV="1" rot="10800000">
            <a:off x="3533040" y="4316760"/>
            <a:ext cx="658080" cy="76284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2" name=""/>
          <p:cNvCxnSpPr>
            <a:stCxn id="325" idx="1"/>
            <a:endCxn id="330" idx="3"/>
          </p:cNvCxnSpPr>
          <p:nvPr/>
        </p:nvCxnSpPr>
        <p:spPr>
          <a:xfrm flipV="1" rot="10800000">
            <a:off x="3533040" y="4698720"/>
            <a:ext cx="658080" cy="38160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3" name=""/>
          <p:cNvCxnSpPr>
            <a:stCxn id="326" idx="1"/>
            <a:endCxn id="330" idx="3"/>
          </p:cNvCxnSpPr>
          <p:nvPr/>
        </p:nvCxnSpPr>
        <p:spPr>
          <a:xfrm rot="10800000">
            <a:off x="3533040" y="5079240"/>
            <a:ext cx="65808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4" name=""/>
          <p:cNvCxnSpPr>
            <a:stCxn id="327" idx="1"/>
            <a:endCxn id="330" idx="3"/>
          </p:cNvCxnSpPr>
          <p:nvPr/>
        </p:nvCxnSpPr>
        <p:spPr>
          <a:xfrm rot="10800000">
            <a:off x="3533040" y="5079240"/>
            <a:ext cx="658080" cy="38160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5" name=""/>
          <p:cNvCxnSpPr>
            <a:stCxn id="328" idx="1"/>
            <a:endCxn id="330" idx="3"/>
          </p:cNvCxnSpPr>
          <p:nvPr/>
        </p:nvCxnSpPr>
        <p:spPr>
          <a:xfrm rot="10800000">
            <a:off x="3533040" y="5079240"/>
            <a:ext cx="658080" cy="76284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6" name=""/>
          <p:cNvCxnSpPr>
            <a:stCxn id="329" idx="1"/>
            <a:endCxn id="330" idx="3"/>
          </p:cNvCxnSpPr>
          <p:nvPr/>
        </p:nvCxnSpPr>
        <p:spPr>
          <a:xfrm rot="10800000">
            <a:off x="3533040" y="5079240"/>
            <a:ext cx="658080" cy="114372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62120" y="4495680"/>
            <a:ext cx="380880" cy="12193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987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DispatchMessag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295280" y="525780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676520" y="36576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ctual method cal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40384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ff"/>
                </a:solidFill>
                <a:latin typeface="Arial Narrow"/>
              </a:rPr>
              <a:t>Channel Sink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97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tter, dispatcher and transport are in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channel sinks are linked in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55640" y="2600280"/>
            <a:ext cx="2952720" cy="39243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2563920"/>
            <a:ext cx="2808360" cy="39607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659040"/>
            <a:ext cx="19080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ckBuilder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5418000" y="3003480"/>
            <a:ext cx="19447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 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5435640" y="4378320"/>
            <a:ext cx="19080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ormatter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64000" y="5019840"/>
            <a:ext cx="2052720" cy="684000"/>
            <a:chOff x="5364000" y="5019840"/>
            <a:chExt cx="2052720" cy="684000"/>
          </a:xfrm>
        </p:grpSpPr>
        <p:sp>
          <p:nvSpPr>
            <p:cNvPr id="352" name=""/>
            <p:cNvSpPr/>
            <p:nvPr/>
          </p:nvSpPr>
          <p:spPr>
            <a:xfrm>
              <a:off x="5364000" y="5019840"/>
              <a:ext cx="1908360" cy="53316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37080" y="5091120"/>
              <a:ext cx="190836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08720" y="5170320"/>
              <a:ext cx="190800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435640" y="5811840"/>
            <a:ext cx="19080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port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2124000" y="3651120"/>
            <a:ext cx="190836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106720" y="3003480"/>
            <a:ext cx="19447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ient 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2124000" y="4370400"/>
            <a:ext cx="190836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ormatter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052720" y="5011560"/>
            <a:ext cx="2052720" cy="684360"/>
            <a:chOff x="2052720" y="5011560"/>
            <a:chExt cx="2052720" cy="684360"/>
          </a:xfrm>
        </p:grpSpPr>
        <p:sp>
          <p:nvSpPr>
            <p:cNvPr id="360" name=""/>
            <p:cNvSpPr/>
            <p:nvPr/>
          </p:nvSpPr>
          <p:spPr>
            <a:xfrm>
              <a:off x="2052720" y="5011560"/>
              <a:ext cx="190800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5800" y="5083200"/>
              <a:ext cx="190800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97080" y="5162400"/>
              <a:ext cx="190836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124000" y="5803920"/>
            <a:ext cx="190836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port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4032360" y="605628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5" name=""/>
          <p:cNvCxnSpPr>
            <a:stCxn id="357" idx="3"/>
            <a:endCxn id="356" idx="3"/>
          </p:cNvCxnSpPr>
          <p:nvPr/>
        </p:nvCxnSpPr>
        <p:spPr>
          <a:xfrm flipH="1">
            <a:off x="4031640" y="3269880"/>
            <a:ext cx="19800" cy="648360"/>
          </a:xfrm>
          <a:prstGeom prst="curvedConnector5">
            <a:avLst>
              <a:gd name="adj1" fmla="val -1200000"/>
              <a:gd name="adj2" fmla="val 50000"/>
              <a:gd name="adj3" fmla="val -12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56" idx="1"/>
            <a:endCxn id="358" idx="1"/>
          </p:cNvCxnSpPr>
          <p:nvPr/>
        </p:nvCxnSpPr>
        <p:spPr>
          <a:xfrm flipV="1" rot="10800000">
            <a:off x="2094840" y="3917520"/>
            <a:ext cx="29160" cy="720000"/>
          </a:xfrm>
          <a:prstGeom prst="curvedConnector5">
            <a:avLst>
              <a:gd name="adj1" fmla="val 800000"/>
              <a:gd name="adj2" fmla="val 49974"/>
              <a:gd name="adj3" fmla="val 8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58" idx="3"/>
            <a:endCxn id="362" idx="3"/>
          </p:cNvCxnSpPr>
          <p:nvPr/>
        </p:nvCxnSpPr>
        <p:spPr>
          <a:xfrm>
            <a:off x="4060800" y="4637160"/>
            <a:ext cx="45360" cy="792720"/>
          </a:xfrm>
          <a:prstGeom prst="curvedConnector5">
            <a:avLst>
              <a:gd name="adj1" fmla="val 613600"/>
              <a:gd name="adj2" fmla="val 49977"/>
              <a:gd name="adj3" fmla="val 6136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2" idx="1"/>
            <a:endCxn id="363" idx="1"/>
          </p:cNvCxnSpPr>
          <p:nvPr/>
        </p:nvCxnSpPr>
        <p:spPr>
          <a:xfrm flipV="1" rot="10800000">
            <a:off x="2094840" y="5428800"/>
            <a:ext cx="102240" cy="642240"/>
          </a:xfrm>
          <a:prstGeom prst="curvedConnector5">
            <a:avLst>
              <a:gd name="adj1" fmla="val 296819"/>
              <a:gd name="adj2" fmla="val 49971"/>
              <a:gd name="adj3" fmla="val 29681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55" idx="3"/>
            <a:endCxn id="354" idx="3"/>
          </p:cNvCxnSpPr>
          <p:nvPr/>
        </p:nvCxnSpPr>
        <p:spPr>
          <a:xfrm flipV="1">
            <a:off x="7372080" y="5436720"/>
            <a:ext cx="45000" cy="642240"/>
          </a:xfrm>
          <a:prstGeom prst="curvedConnector5">
            <a:avLst>
              <a:gd name="adj1" fmla="val 613709"/>
              <a:gd name="adj2" fmla="val 49971"/>
              <a:gd name="adj3" fmla="val 61370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4" idx="1"/>
            <a:endCxn id="350" idx="1"/>
          </p:cNvCxnSpPr>
          <p:nvPr/>
        </p:nvCxnSpPr>
        <p:spPr>
          <a:xfrm rot="10800000">
            <a:off x="5406480" y="4644360"/>
            <a:ext cx="102240" cy="792720"/>
          </a:xfrm>
          <a:prstGeom prst="curvedConnector5">
            <a:avLst>
              <a:gd name="adj1" fmla="val 296819"/>
              <a:gd name="adj2" fmla="val 49977"/>
              <a:gd name="adj3" fmla="val 29681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0" idx="3"/>
            <a:endCxn id="348" idx="3"/>
          </p:cNvCxnSpPr>
          <p:nvPr/>
        </p:nvCxnSpPr>
        <p:spPr>
          <a:xfrm flipV="1">
            <a:off x="7372440" y="3925440"/>
            <a:ext cx="2160" cy="720000"/>
          </a:xfrm>
          <a:prstGeom prst="curvedConnector5">
            <a:avLst>
              <a:gd name="adj1" fmla="val 12600000"/>
              <a:gd name="adj2" fmla="val 49974"/>
              <a:gd name="adj3" fmla="val 126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48" idx="1"/>
            <a:endCxn id="349" idx="1"/>
          </p:cNvCxnSpPr>
          <p:nvPr/>
        </p:nvCxnSpPr>
        <p:spPr>
          <a:xfrm flipH="1" rot="10800000">
            <a:off x="5406840" y="3269520"/>
            <a:ext cx="11520" cy="656280"/>
          </a:xfrm>
          <a:prstGeom prst="curvedConnector5">
            <a:avLst>
              <a:gd name="adj1" fmla="val -1954838"/>
              <a:gd name="adj2" fmla="val 50000"/>
              <a:gd name="adj3" fmla="val -1954838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ome Advanced Topic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31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ing Methods "One-Wa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"oneway" attribu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oneway] void FireAndFor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 bag passed with every I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ionary entry "__CallContext", class Call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pass processing information a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3: Contexts and Intercep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Rule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Attributes and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ion: Context and Messag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ontext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Context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Rules and Concep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474920"/>
            <a:ext cx="7321680" cy="474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s enclose "contextful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 derived from System.ContextBound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 for class declared using context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ontext boundary is shar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 have identical attribut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attributes actively agree to dev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bjects in other contexts are "remo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ly similar to AppDomain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s crossing boundary may be inter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s of IMessageSinks allows hooks at any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n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5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: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: Remotin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3: Context and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: Serving and Access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772400" y="1828800"/>
            <a:ext cx="106668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and Properti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5338800" y="3429000"/>
            <a:ext cx="2662200" cy="2600280"/>
          </a:xfrm>
          <a:prstGeom prst="flowChartAlternate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5524560"/>
            <a:ext cx="938160" cy="95256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705720" y="4343400"/>
            <a:ext cx="990360" cy="681120"/>
            <a:chOff x="6705720" y="4343400"/>
            <a:chExt cx="990360" cy="681120"/>
          </a:xfrm>
        </p:grpSpPr>
        <p:sp>
          <p:nvSpPr>
            <p:cNvPr id="384" name=""/>
            <p:cNvSpPr/>
            <p:nvPr/>
          </p:nvSpPr>
          <p:spPr>
            <a:xfrm>
              <a:off x="7002720" y="4343400"/>
              <a:ext cx="693360" cy="681120"/>
            </a:xfrm>
            <a:prstGeom prst="flowChartProcess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05720" y="4386960"/>
              <a:ext cx="148320" cy="156960"/>
            </a:xfrm>
            <a:prstGeom prst="flowChartDecision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854040" y="4474440"/>
              <a:ext cx="14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5720" y="4605480"/>
              <a:ext cx="148320" cy="156960"/>
            </a:xfrm>
            <a:prstGeom prst="flowChartDecision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854040" y="4692600"/>
              <a:ext cx="14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62120" y="2489040"/>
            <a:ext cx="2286000" cy="139716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-Bound Cla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1751040" y="1752480"/>
            <a:ext cx="306360" cy="75096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144" y="720"/>
                </a:moveTo>
                <a:lnTo>
                  <a:pt x="144" y="192"/>
                </a:lnTo>
                <a:lnTo>
                  <a:pt x="0" y="192"/>
                </a:lnTo>
                <a:lnTo>
                  <a:pt x="144" y="0"/>
                </a:lnTo>
                <a:lnTo>
                  <a:pt x="288" y="192"/>
                </a:lnTo>
                <a:lnTo>
                  <a:pt x="144" y="19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143000"/>
            <a:ext cx="2286000" cy="60012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ystem.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Bound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2666880"/>
            <a:ext cx="1143000" cy="38124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6301440" y="3886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eate 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4674960" y="25909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ContextOK() </a:t>
            </a: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428640" y="2819520"/>
            <a:ext cx="1143000" cy="7596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2971800"/>
            <a:ext cx="304920" cy="45720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2666880"/>
            <a:ext cx="381240" cy="38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3276720" y="3200040"/>
            <a:ext cx="457200" cy="152388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 rot="18809400">
            <a:off x="3657600" y="4419360"/>
            <a:ext cx="106668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1176480" y="480060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No!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tPropertiesForNewContext() </a:t>
            </a: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3314880" y="3733920"/>
            <a:ext cx="380880" cy="38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5029200" y="3657240"/>
            <a:ext cx="1447920" cy="762120"/>
          </a:xfrm>
          <a:prstGeom prst="line">
            <a:avLst/>
          </a:prstGeom>
          <a:ln w="7632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5740560" y="3949560"/>
            <a:ext cx="380880" cy="38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"/>
          <p:cNvSpPr/>
          <p:nvPr/>
        </p:nvSpPr>
        <p:spPr>
          <a:xfrm rot="1159200">
            <a:off x="3787200" y="157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5788080" y="1371600"/>
            <a:ext cx="3051000" cy="368280"/>
          </a:xfrm>
          <a:prstGeom prst="rect">
            <a:avLst/>
          </a:prstGeom>
          <a:solidFill>
            <a:srgbClr val="cecece">
              <a:alpha val="50000"/>
            </a:srgbClr>
          </a:solidFill>
          <a:ln w="6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Yes!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e existing contex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5788080" y="1836720"/>
            <a:ext cx="3051000" cy="368280"/>
          </a:xfrm>
          <a:prstGeom prst="rect">
            <a:avLst/>
          </a:prstGeom>
          <a:solidFill>
            <a:srgbClr val="cecece">
              <a:alpha val="50000"/>
            </a:srgbClr>
          </a:solidFill>
          <a:ln w="6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No!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reate new contex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07" name=""/>
          <p:cNvCxnSpPr>
            <a:stCxn id="394" idx="3"/>
            <a:endCxn id="405" idx="1"/>
          </p:cNvCxnSpPr>
          <p:nvPr/>
        </p:nvCxnSpPr>
        <p:spPr>
          <a:xfrm flipH="1" flipV="1">
            <a:off x="5787360" y="1558440"/>
            <a:ext cx="810360" cy="1216800"/>
          </a:xfrm>
          <a:prstGeom prst="bentConnector5">
            <a:avLst>
              <a:gd name="adj1" fmla="val -28222"/>
              <a:gd name="adj2" fmla="val 30393"/>
              <a:gd name="adj3" fmla="val 161155"/>
            </a:avLst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08" name=""/>
          <p:cNvCxnSpPr>
            <a:stCxn id="394" idx="3"/>
            <a:endCxn id="406" idx="1"/>
          </p:cNvCxnSpPr>
          <p:nvPr/>
        </p:nvCxnSpPr>
        <p:spPr>
          <a:xfrm flipH="1" flipV="1">
            <a:off x="5787360" y="2023560"/>
            <a:ext cx="810360" cy="751680"/>
          </a:xfrm>
          <a:prstGeom prst="bentConnector5">
            <a:avLst>
              <a:gd name="adj1" fmla="val -28222"/>
              <a:gd name="adj2" fmla="val 49880"/>
              <a:gd name="adj3" fmla="val 161333"/>
            </a:avLst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2357280" y="1905120"/>
            <a:ext cx="2357640" cy="114300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2749" y="14370"/>
                </a:moveTo>
                <a:arcTo wR="-8807" hR="-8807" stAng="9365183" swAng="-9365183"/>
                <a:lnTo>
                  <a:pt x="0" y="10800"/>
                </a:lnTo>
                <a:arcTo wR="10800" hR="10800" stAng="10800000" swAng="9365183"/>
                <a:lnTo>
                  <a:pt x="23141" y="5328"/>
                </a:lnTo>
                <a:lnTo>
                  <a:pt x="21260" y="10205"/>
                </a:lnTo>
                <a:lnTo>
                  <a:pt x="16383" y="8324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714840" y="4429080"/>
            <a:ext cx="2143080" cy="1571760"/>
          </a:xfrm>
          <a:custGeom>
            <a:avLst/>
            <a:gdLst>
              <a:gd name="textAreaLeft" fmla="*/ 0 w 2143080"/>
              <a:gd name="textAreaRight" fmla="*/ 2143440 w 2143080"/>
              <a:gd name="textAreaTop" fmla="*/ 360 h 1571760"/>
              <a:gd name="textAreaBottom" fmla="*/ 1572480 h 1571760"/>
            </a:gdLst>
            <a:ahLst/>
            <a:rect l="textAreaLeft" t="textAreaTop" r="textAreaRight" b="textAreaBottom"/>
            <a:pathLst>
              <a:path w="21600" h="21600">
                <a:moveTo>
                  <a:pt x="8000" y="19767"/>
                </a:moveTo>
                <a:arcTo wR="-9394" hR="-9394" stAng="6440368" swAng="-6440368"/>
                <a:lnTo>
                  <a:pt x="0" y="10800"/>
                </a:lnTo>
                <a:arcTo wR="10800" hR="10800" stAng="10800000" swAng="6440368"/>
                <a:lnTo>
                  <a:pt x="14823" y="-2087"/>
                </a:lnTo>
                <a:lnTo>
                  <a:pt x="17058" y="2176"/>
                </a:lnTo>
                <a:lnTo>
                  <a:pt x="12795" y="441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071480" y="1285920"/>
            <a:ext cx="1714680" cy="2357280"/>
          </a:xfrm>
          <a:custGeom>
            <a:avLst/>
            <a:gdLst>
              <a:gd name="textAreaLeft" fmla="*/ -360 w 1714680"/>
              <a:gd name="textAreaRight" fmla="*/ 1714680 w 1714680"/>
              <a:gd name="textAreaTop" fmla="*/ 360 h 2357280"/>
              <a:gd name="textAreaBottom" fmla="*/ 2358000 h 2357280"/>
            </a:gdLst>
            <a:ahLst/>
            <a:rect l="textAreaLeft" t="textAreaTop" r="textAreaRight" b="textAreaBottom"/>
            <a:pathLst>
              <a:path w="21600" h="21600">
                <a:moveTo>
                  <a:pt x="14640" y="19273"/>
                </a:moveTo>
                <a:arcTo wR="-9302" hR="-9302" stAng="3937185" swAng="-4412444"/>
                <a:lnTo>
                  <a:pt x="103" y="12288"/>
                </a:lnTo>
                <a:arcTo wR="10800" hR="10800" stAng="10324741" swAng="4412444"/>
                <a:lnTo>
                  <a:pt x="5227" y="-1496"/>
                </a:lnTo>
                <a:lnTo>
                  <a:pt x="9792" y="222"/>
                </a:lnTo>
                <a:lnTo>
                  <a:pt x="8075" y="4787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Interception: Message Chain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321680" cy="15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message passes a four chains of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properties contribute these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attributes allow intercepting all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3124080"/>
            <a:ext cx="2514600" cy="2590920"/>
          </a:xfrm>
          <a:prstGeom prst="rect">
            <a:avLst/>
          </a:prstGeom>
          <a:solidFill>
            <a:srgbClr val="618ffd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3124080"/>
            <a:ext cx="2362320" cy="2590920"/>
          </a:xfrm>
          <a:prstGeom prst="rect">
            <a:avLst/>
          </a:prstGeom>
          <a:solidFill>
            <a:srgbClr val="618ffd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3467160"/>
            <a:ext cx="1752480" cy="1905120"/>
          </a:xfrm>
          <a:prstGeom prst="flowChartAlternate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4152960"/>
            <a:ext cx="5335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3467160"/>
            <a:ext cx="1752480" cy="1905120"/>
          </a:xfrm>
          <a:prstGeom prst="flowChartAlternate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4152960"/>
            <a:ext cx="5335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4191120"/>
            <a:ext cx="152640" cy="45720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2793960" y="4127400"/>
            <a:ext cx="152280" cy="60984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5943600" y="4102200"/>
            <a:ext cx="152280" cy="60948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4191120"/>
            <a:ext cx="152640" cy="45720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5867280"/>
            <a:ext cx="1600200" cy="609840"/>
          </a:xfrm>
          <a:prstGeom prst="wedgeRectCallout">
            <a:avLst>
              <a:gd name="adj1" fmla="val 44444"/>
              <a:gd name="adj2" fmla="val -230208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voy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867280"/>
            <a:ext cx="1600200" cy="609840"/>
          </a:xfrm>
          <a:prstGeom prst="wedgeRectCallout">
            <a:avLst>
              <a:gd name="adj1" fmla="val -27180"/>
              <a:gd name="adj2" fmla="val -222398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lient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tex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5867280"/>
            <a:ext cx="1600200" cy="609840"/>
          </a:xfrm>
          <a:prstGeom prst="wedgeRectCallout">
            <a:avLst>
              <a:gd name="adj1" fmla="val 23314"/>
              <a:gd name="adj2" fmla="val -25573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 Contex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5867280"/>
            <a:ext cx="1600200" cy="609840"/>
          </a:xfrm>
          <a:prstGeom prst="wedgeRectCallout">
            <a:avLst>
              <a:gd name="adj1" fmla="val -54564"/>
              <a:gd name="adj2" fmla="val -265625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4419720"/>
            <a:ext cx="41907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3581280"/>
            <a:ext cx="2210040" cy="1676520"/>
          </a:xfrm>
          <a:prstGeom prst="rightArrow">
            <a:avLst>
              <a:gd name="adj1" fmla="val 50000"/>
              <a:gd name="adj2" fmla="val 55561"/>
            </a:avLst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45720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hain Hooks: Message Sink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9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Object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to intercept messages per-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modify object behavior on messag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ontext Sink, Client Context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to intercept messages per-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see, modify and possibly block all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Envoy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by the server on the client side 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pre-scan messages before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arameter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queuing of multiple calls for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Attribute Driven Behaviour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326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ntext Attribute: CallTrace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cepts all calls crossing the context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s methods and arguments to log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stablish interce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 implements IContributeServerContextS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bjectSink() returns new IMessageS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743200" y="4495680"/>
            <a:ext cx="2057400" cy="2057400"/>
            <a:chOff x="2743200" y="4495680"/>
            <a:chExt cx="2057400" cy="2057400"/>
          </a:xfrm>
        </p:grpSpPr>
        <p:sp>
          <p:nvSpPr>
            <p:cNvPr id="436" name=""/>
            <p:cNvSpPr/>
            <p:nvPr/>
          </p:nvSpPr>
          <p:spPr>
            <a:xfrm>
              <a:off x="2743200" y="4495680"/>
              <a:ext cx="2057400" cy="2057400"/>
            </a:xfrm>
            <a:prstGeom prst="rect">
              <a:avLst/>
            </a:prstGeom>
            <a:solidFill>
              <a:srgbClr val="618ff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54600" y="4767840"/>
              <a:ext cx="1433880" cy="1512360"/>
            </a:xfrm>
            <a:prstGeom prst="flowChartAlternateProcess">
              <a:avLst/>
            </a:prstGeom>
            <a:solidFill>
              <a:srgbClr val="618ff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53200" y="5312520"/>
              <a:ext cx="436320" cy="423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92320" y="5271840"/>
              <a:ext cx="124560" cy="484200"/>
            </a:xfrm>
            <a:prstGeom prst="flowChartProcess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990720" y="4572000"/>
            <a:ext cx="1600200" cy="609480"/>
          </a:xfrm>
          <a:prstGeom prst="wedgeRectCallout">
            <a:avLst>
              <a:gd name="adj1" fmla="val 72319"/>
              <a:gd name="adj2" fmla="val 65884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 Contex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"/>
          <p:cNvSpPr/>
          <p:nvPr/>
        </p:nvSpPr>
        <p:spPr>
          <a:xfrm>
            <a:off x="1752480" y="5486400"/>
            <a:ext cx="175284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6095880"/>
            <a:ext cx="304920" cy="30492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5867280"/>
            <a:ext cx="1600200" cy="609840"/>
          </a:xfrm>
          <a:prstGeom prst="wedgeRectCallout">
            <a:avLst>
              <a:gd name="adj1" fmla="val 108629"/>
              <a:gd name="adj2" fmla="val 1744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text Proper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 flipH="1" rot="2787000">
            <a:off x="3085200" y="4914000"/>
            <a:ext cx="1600560" cy="761760"/>
          </a:xfrm>
          <a:custGeom>
            <a:avLst/>
            <a:gdLst>
              <a:gd name="textAreaLeft" fmla="*/ 333000 w 1600560"/>
              <a:gd name="textAreaRight" fmla="*/ 1107720 w 160056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88" hR="21600" stAng="10800000" swAng="5400000"/>
                <a:lnTo>
                  <a:pt x="10452" y="0"/>
                </a:lnTo>
                <a:arcTo wR="8988" hR="21600" stAng="-5400000" swAng="2790048"/>
                <a:lnTo>
                  <a:pt x="20972" y="13667"/>
                </a:lnTo>
                <a:lnTo>
                  <a:pt x="18708" y="21600"/>
                </a:lnTo>
                <a:lnTo>
                  <a:pt x="15188" y="13667"/>
                </a:lnTo>
                <a:lnTo>
                  <a:pt x="17348" y="13667"/>
                </a:lnTo>
                <a:arcTo wR="8988" hR="21600" stAng="-2609952" swAng="-2673204"/>
                <a:lnTo>
                  <a:pt x="9720" y="72"/>
                </a:lnTo>
                <a:arcTo wR="8988" hR="21600" stAng="-5516845" swAng="-5283155"/>
                <a:close/>
              </a:path>
              <a:path fill="darkenLess" w="21600" h="21600">
                <a:moveTo>
                  <a:pt x="0" y="21600"/>
                </a:moveTo>
                <a:arcTo wR="8988" hR="21600" stAng="10800000" swAng="5400000"/>
                <a:lnTo>
                  <a:pt x="8988" y="0"/>
                </a:lnTo>
                <a:arcTo wR="8988" hR="21600" stAng="-5400000" swAng="116845"/>
                <a:lnTo>
                  <a:pt x="9720" y="72"/>
                </a:lnTo>
                <a:arcTo wR="8988" hR="21600" stAng="-5516845" swAng="-5283155"/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"/>
          <p:cNvSpPr/>
          <p:nvPr/>
        </p:nvSpPr>
        <p:spPr>
          <a:xfrm>
            <a:off x="5286240" y="4714920"/>
            <a:ext cx="3143520" cy="1071360"/>
          </a:xfrm>
          <a:prstGeom prst="wedgeRoundRectCallout">
            <a:avLst>
              <a:gd name="adj1" fmla="val -76666"/>
              <a:gd name="adj2" fmla="val 9111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erty  contributes sink for server context ch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tandard Context Attribut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21680" cy="406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[Synchronization()]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ed (serial) calls into context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s are queued at context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mimic the COM+ Apartment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+ Context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+ Context i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or may not overlap with remoting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lationship whatso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ongs to COM/Interop Services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Characteristic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1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Local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any data to be associated with the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ntext.SetData(), Context.GetData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ContextStatic] static int q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(class) member with per-context sc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he current context via Threa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hread.GetCurrentCont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8480" y="295200"/>
            <a:ext cx="82551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4: Serving &amp; Accessing Objec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5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ing Well-Know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ing Classes for Client-Side Ac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emoting and Registering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Remoting Servic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402680" cy="522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RemotingService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fundamental remo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to remote object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ject marsh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.Runtime.Remoting.Remoting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vides infrastructure for Remoting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Channel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nel registration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Lifetime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se-based lifecycle management for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Tracking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hooks for tracking remoting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Exposing Well-Known Objec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's activation model is very unlike COM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NET rather resembles CORBA model 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no actively listening endpoint: no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rogates, no registry, no location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 servers are not remotely acti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es Remoting grea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well-known object for clients to conn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nd to known channels with known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use static registration, prog-ids or class-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pose "single call" or "singleton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ingle Call and Singleton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ngle Call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instance is created for each call on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 the stateless model of th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ngleton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hared instance provided for all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s as "gateway" into stateful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is created at registr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Configur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RegisterWellKnownService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KnownObjectMode.Single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KnownObjectMode.Sing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Section 1: Overview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15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back: Remoting in COM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's wrong with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C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rver Setup Example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55640" y="6019920"/>
            <a:ext cx="732168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s and Objects are AppDomain-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4724280"/>
            <a:ext cx="5638680" cy="1067040"/>
          </a:xfrm>
          <a:prstGeom prst="wedgeRectCallout">
            <a:avLst>
              <a:gd name="adj1" fmla="val 476"/>
              <a:gd name="adj2" fmla="val -88097"/>
            </a:avLst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 the single-call endpoint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myserver:8080/MyEndpointUR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2057400"/>
            <a:ext cx="1524240" cy="914400"/>
          </a:xfrm>
          <a:prstGeom prst="wedgeRectCallout">
            <a:avLst>
              <a:gd name="adj1" fmla="val -91773"/>
              <a:gd name="adj2" fmla="val -38712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nel registr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7238880" y="3429000"/>
            <a:ext cx="1524240" cy="914400"/>
          </a:xfrm>
          <a:prstGeom prst="wedgeRectCallout">
            <a:avLst>
              <a:gd name="adj1" fmla="val -101773"/>
              <a:gd name="adj2" fmla="val -5034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bject registr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"/>
          <p:cNvSpPr/>
          <p:nvPr/>
        </p:nvSpPr>
        <p:spPr>
          <a:xfrm>
            <a:off x="427320" y="1157400"/>
            <a:ext cx="6428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Http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Channel chan = new </a:t>
            </a: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Http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Channel(808</a:t>
            </a: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ChannelServices.RegisterChannel(chan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RemotingConfiguration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 RegisterWellKnownServiceType(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typeof(ServerClass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MyEndpointURI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"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WellKnownObjectMode.SingleCall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lient-Side Activa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21680" cy="49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-Side Activation similar 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requests creation of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 difference: Server must be ru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ide Implem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registered with RemotingConfiguration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ingConfiguration.RegisterActivatedServiceTyp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time creates objects on client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ide Implem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created through Activato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ly: Configuration and language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reating remote objects using "new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 Activation and Connec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399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vator (System.Activ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s or connects local and remote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ctivator.CreateInstan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client activate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ctivator.Get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well-know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– lower level connect to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: Activator uses Remoting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8600" y="4419720"/>
            <a:ext cx="2971800" cy="1676160"/>
          </a:xfrm>
          <a:prstGeom prst="flowChartDocumen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 = Activator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GetObject("http://..."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.methodCall()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Activation illustrated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5911920" y="4468680"/>
            <a:ext cx="131760" cy="1173240"/>
          </a:xfrm>
          <a:prstGeom prst="rect">
            <a:avLst/>
          </a:prstGeom>
          <a:solidFill>
            <a:srgbClr val="a5002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4815000" y="2533680"/>
            <a:ext cx="4038480" cy="3333600"/>
          </a:xfrm>
          <a:prstGeom prst="rect">
            <a:avLst/>
          </a:pr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5195880" y="3753000"/>
            <a:ext cx="1628640" cy="1888920"/>
          </a:xfrm>
          <a:custGeom>
            <a:avLst/>
            <a:gdLst>
              <a:gd name="textAreaLeft" fmla="*/ 79200 w 1628640"/>
              <a:gd name="textAreaRight" fmla="*/ 1549440 w 1628640"/>
              <a:gd name="textAreaTop" fmla="*/ 79200 h 1888920"/>
              <a:gd name="textAreaBottom" fmla="*/ 1809720 h 1888920"/>
            </a:gdLst>
            <a:ahLst/>
            <a:rect l="textAreaLeft" t="textAreaTop" r="textAreaRight" b="textAreaBottom"/>
            <a:pathLst>
              <a:path w="21600" h="25051">
                <a:moveTo>
                  <a:pt x="3600" y="0"/>
                </a:moveTo>
                <a:arcTo wR="3600" hR="3600" stAng="16200000" swAng="-5400000"/>
                <a:lnTo>
                  <a:pt x="0" y="21451"/>
                </a:lnTo>
                <a:arcTo wR="3600" hR="3600" stAng="10800000" swAng="-5400000"/>
                <a:lnTo>
                  <a:pt x="18000" y="25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5651640" y="420840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7354800" y="420840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5846760" y="4861080"/>
            <a:ext cx="717480" cy="5205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7710480" y="4896000"/>
            <a:ext cx="717480" cy="5205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77" name=""/>
          <p:cNvCxnSpPr>
            <a:stCxn id="473" idx="1"/>
            <a:endCxn id="475" idx="1"/>
          </p:cNvCxnSpPr>
          <p:nvPr/>
        </p:nvCxnSpPr>
        <p:spPr>
          <a:xfrm flipH="1" flipV="1" rot="10800000">
            <a:off x="5626440" y="4467600"/>
            <a:ext cx="196200" cy="653400"/>
          </a:xfrm>
          <a:prstGeom prst="curvedConnector5">
            <a:avLst>
              <a:gd name="adj1" fmla="val -87500"/>
              <a:gd name="adj2" fmla="val 50000"/>
              <a:gd name="adj3" fmla="val -87500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74" idx="3"/>
            <a:endCxn id="476" idx="1"/>
          </p:cNvCxnSpPr>
          <p:nvPr/>
        </p:nvCxnSpPr>
        <p:spPr>
          <a:xfrm flipH="1">
            <a:off x="7681680" y="4470120"/>
            <a:ext cx="419760" cy="686520"/>
          </a:xfrm>
          <a:prstGeom prst="curvedConnector5">
            <a:avLst>
              <a:gd name="adj1" fmla="val -47725"/>
              <a:gd name="adj2" fmla="val 24973"/>
              <a:gd name="adj3" fmla="val -47725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545080" y="550692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"/>
          <p:cNvSpPr/>
          <p:nvPr/>
        </p:nvSpPr>
        <p:spPr>
          <a:xfrm>
            <a:off x="5850000" y="550692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"/>
          <p:cNvSpPr/>
          <p:nvPr/>
        </p:nvSpPr>
        <p:spPr>
          <a:xfrm>
            <a:off x="6154560" y="550692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"/>
          <p:cNvSpPr/>
          <p:nvPr/>
        </p:nvSpPr>
        <p:spPr>
          <a:xfrm>
            <a:off x="7253280" y="1619280"/>
            <a:ext cx="762120" cy="1028520"/>
          </a:xfrm>
          <a:prstGeom prst="flowChartMagneticDisk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850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"/>
          <p:cNvSpPr/>
          <p:nvPr/>
        </p:nvSpPr>
        <p:spPr>
          <a:xfrm>
            <a:off x="5576760" y="1619280"/>
            <a:ext cx="762120" cy="1028520"/>
          </a:xfrm>
          <a:prstGeom prst="flowChartMagneticDisk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"/>
          <p:cNvSpPr/>
          <p:nvPr/>
        </p:nvSpPr>
        <p:spPr>
          <a:xfrm>
            <a:off x="4967280" y="2685960"/>
            <a:ext cx="3733920" cy="76212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Identity Tab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>
            <a:off x="504360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598320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692316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"/>
          <p:cNvSpPr/>
          <p:nvPr/>
        </p:nvSpPr>
        <p:spPr>
          <a:xfrm>
            <a:off x="786276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89" name=""/>
          <p:cNvCxnSpPr>
            <a:stCxn id="485" idx="2"/>
            <a:endCxn id="473" idx="0"/>
          </p:cNvCxnSpPr>
          <p:nvPr/>
        </p:nvCxnSpPr>
        <p:spPr>
          <a:xfrm flipH="1" rot="16200000">
            <a:off x="5293080" y="3463560"/>
            <a:ext cx="808920" cy="624600"/>
          </a:xfrm>
          <a:prstGeom prst="curvedConnector5">
            <a:avLst>
              <a:gd name="adj1" fmla="val 51647"/>
              <a:gd name="adj2" fmla="val 50000"/>
              <a:gd name="adj3" fmla="val 51647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cxnSp>
        <p:nvCxnSpPr>
          <p:cNvPr id="490" name=""/>
          <p:cNvCxnSpPr>
            <a:stCxn id="486" idx="2"/>
            <a:endCxn id="475" idx="3"/>
          </p:cNvCxnSpPr>
          <p:nvPr/>
        </p:nvCxnSpPr>
        <p:spPr>
          <a:xfrm flipH="1" rot="16200000">
            <a:off x="5583600" y="4113000"/>
            <a:ext cx="1750320" cy="267120"/>
          </a:xfrm>
          <a:prstGeom prst="curvedConnector5">
            <a:avLst>
              <a:gd name="adj1" fmla="val 42542"/>
              <a:gd name="adj2" fmla="val 87584"/>
              <a:gd name="adj3" fmla="val 42542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cxnSp>
        <p:nvCxnSpPr>
          <p:cNvPr id="491" name=""/>
          <p:cNvCxnSpPr>
            <a:stCxn id="488" idx="2"/>
            <a:endCxn id="476" idx="3"/>
          </p:cNvCxnSpPr>
          <p:nvPr/>
        </p:nvCxnSpPr>
        <p:spPr>
          <a:xfrm flipH="1" rot="16200000">
            <a:off x="7437960" y="4138200"/>
            <a:ext cx="1785240" cy="251640"/>
          </a:xfrm>
          <a:prstGeom prst="curvedConnector5">
            <a:avLst>
              <a:gd name="adj1" fmla="val 42698"/>
              <a:gd name="adj2" fmla="val 89828"/>
              <a:gd name="adj3" fmla="val 42698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cxnSp>
        <p:nvCxnSpPr>
          <p:cNvPr id="492" name=""/>
          <p:cNvCxnSpPr>
            <a:stCxn id="487" idx="2"/>
            <a:endCxn id="474" idx="0"/>
          </p:cNvCxnSpPr>
          <p:nvPr/>
        </p:nvCxnSpPr>
        <p:spPr>
          <a:xfrm flipH="1" rot="16200000">
            <a:off x="7085520" y="3551400"/>
            <a:ext cx="808920" cy="448560"/>
          </a:xfrm>
          <a:prstGeom prst="curvedConnector5">
            <a:avLst>
              <a:gd name="adj1" fmla="val 51647"/>
              <a:gd name="adj2" fmla="val 49959"/>
              <a:gd name="adj3" fmla="val 51647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sp>
        <p:nvSpPr>
          <p:cNvPr id="493" name=""/>
          <p:cNvSpPr/>
          <p:nvPr/>
        </p:nvSpPr>
        <p:spPr>
          <a:xfrm>
            <a:off x="2667960" y="1027800"/>
            <a:ext cx="3198240" cy="36828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tcp://server:8501/uri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1920960" y="1324800"/>
            <a:ext cx="3335400" cy="36828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http://server:8080/uri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95" name=""/>
          <p:cNvCxnSpPr>
            <a:stCxn id="493" idx="3"/>
          </p:cNvCxnSpPr>
          <p:nvPr/>
        </p:nvCxnSpPr>
        <p:spPr>
          <a:xfrm>
            <a:off x="5881680" y="1212840"/>
            <a:ext cx="1797840" cy="565920"/>
          </a:xfrm>
          <a:prstGeom prst="curvedConnector5">
            <a:avLst>
              <a:gd name="adj1" fmla="val 49989"/>
              <a:gd name="adj2" fmla="val 49968"/>
              <a:gd name="adj3" fmla="val 49989"/>
            </a:avLst>
          </a:prstGeom>
          <a:ln w="50760">
            <a:solidFill>
              <a:srgbClr val="a50021"/>
            </a:solidFill>
            <a:miter/>
            <a:headEnd len="med" type="oval" w="med"/>
            <a:tailEnd len="med" type="oval" w="med"/>
          </a:ln>
        </p:spPr>
      </p:cxnSp>
      <p:cxnSp>
        <p:nvCxnSpPr>
          <p:cNvPr id="496" name=""/>
          <p:cNvCxnSpPr>
            <a:stCxn id="494" idx="3"/>
          </p:cNvCxnSpPr>
          <p:nvPr/>
        </p:nvCxnSpPr>
        <p:spPr>
          <a:xfrm>
            <a:off x="5272200" y="1509480"/>
            <a:ext cx="668880" cy="27036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50760">
            <a:solidFill>
              <a:srgbClr val="a50021"/>
            </a:solidFill>
            <a:miter/>
            <a:headEnd len="med" type="oval" w="med"/>
            <a:tailEnd len="med" type="oval" w="med"/>
          </a:ln>
        </p:spPr>
      </p:cxnSp>
      <p:cxnSp>
        <p:nvCxnSpPr>
          <p:cNvPr id="497" name=""/>
          <p:cNvCxnSpPr>
            <a:stCxn id="482" idx="3"/>
            <a:endCxn id="488" idx="0"/>
          </p:cNvCxnSpPr>
          <p:nvPr/>
        </p:nvCxnSpPr>
        <p:spPr>
          <a:xfrm flipH="1" rot="16200000">
            <a:off x="7710120" y="2571120"/>
            <a:ext cx="4201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50760">
            <a:solidFill>
              <a:srgbClr val="a50021"/>
            </a:solidFill>
            <a:miter/>
            <a:tailEnd len="med" type="oval" w="med"/>
          </a:ln>
        </p:spPr>
      </p:cxnSp>
      <p:cxnSp>
        <p:nvCxnSpPr>
          <p:cNvPr id="498" name=""/>
          <p:cNvCxnSpPr>
            <a:stCxn id="483" idx="3"/>
            <a:endCxn id="486" idx="3"/>
          </p:cNvCxnSpPr>
          <p:nvPr/>
        </p:nvCxnSpPr>
        <p:spPr>
          <a:xfrm flipH="1" rot="16200000">
            <a:off x="6026760" y="2577960"/>
            <a:ext cx="572400" cy="711720"/>
          </a:xfrm>
          <a:prstGeom prst="curvedConnector5">
            <a:avLst>
              <a:gd name="adj1" fmla="val 19949"/>
              <a:gd name="adj2" fmla="val 66042"/>
              <a:gd name="adj3" fmla="val 19949"/>
            </a:avLst>
          </a:prstGeom>
          <a:ln w="50760">
            <a:solidFill>
              <a:srgbClr val="a50021"/>
            </a:solidFill>
            <a:miter/>
            <a:tailEnd len="med" type="oval" w="med"/>
          </a:ln>
        </p:spPr>
      </p:cxnSp>
      <p:sp>
        <p:nvSpPr>
          <p:cNvPr id="499" name=""/>
          <p:cNvSpPr/>
          <p:nvPr/>
        </p:nvSpPr>
        <p:spPr>
          <a:xfrm>
            <a:off x="685800" y="2133720"/>
            <a:ext cx="3733920" cy="38088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motingServices.Connect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819520"/>
            <a:ext cx="3733920" cy="38088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ctivator.GetObject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3429000"/>
            <a:ext cx="1219320" cy="76212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anguage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502" name=""/>
          <p:cNvCxnSpPr>
            <a:stCxn id="499" idx="0"/>
            <a:endCxn id="494" idx="1"/>
          </p:cNvCxnSpPr>
          <p:nvPr/>
        </p:nvCxnSpPr>
        <p:spPr>
          <a:xfrm flipV="1" rot="16200000">
            <a:off x="1916280" y="1497240"/>
            <a:ext cx="624600" cy="648360"/>
          </a:xfrm>
          <a:prstGeom prst="bentConnector4">
            <a:avLst>
              <a:gd name="adj1" fmla="val 35063"/>
              <a:gd name="adj2" fmla="val 135277"/>
            </a:avLst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stCxn id="500" idx="0"/>
            <a:endCxn id="499" idx="2"/>
          </p:cNvCxnSpPr>
          <p:nvPr/>
        </p:nvCxnSpPr>
        <p:spPr>
          <a:xfrm flipV="1">
            <a:off x="2552400" y="2513880"/>
            <a:ext cx="1080" cy="305640"/>
          </a:xfrm>
          <a:prstGeom prst="bentConnector2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1"/>
            <a:endCxn id="500" idx="2"/>
          </p:cNvCxnSpPr>
          <p:nvPr/>
        </p:nvCxnSpPr>
        <p:spPr>
          <a:xfrm rot="10800000">
            <a:off x="2552040" y="3199680"/>
            <a:ext cx="648360" cy="610200"/>
          </a:xfrm>
          <a:prstGeom prst="bentConnector2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2209680" y="5334120"/>
            <a:ext cx="2362320" cy="1295280"/>
          </a:xfrm>
          <a:prstGeom prst="flowChartDocumen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 = new myClass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.methodCall()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506" name=""/>
          <p:cNvCxnSpPr>
            <a:endCxn id="501" idx="2"/>
          </p:cNvCxnSpPr>
          <p:nvPr/>
        </p:nvCxnSpPr>
        <p:spPr>
          <a:xfrm flipV="1">
            <a:off x="3801960" y="4190760"/>
            <a:ext cx="8640" cy="1219680"/>
          </a:xfrm>
          <a:prstGeom prst="straightConnector1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68" idx="0"/>
            <a:endCxn id="500" idx="2"/>
          </p:cNvCxnSpPr>
          <p:nvPr/>
        </p:nvCxnSpPr>
        <p:spPr>
          <a:xfrm flipH="1" flipV="1" rot="5400000">
            <a:off x="1523880" y="3390480"/>
            <a:ext cx="1220040" cy="838800"/>
          </a:xfrm>
          <a:prstGeom prst="bentConnector3">
            <a:avLst>
              <a:gd name="adj1" fmla="val 50000"/>
            </a:avLst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figuring Remoting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5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 Configuration Architecture en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endpoints at install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known ports, full control for administ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component distribution by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can define which classes are remote or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is fil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egrated with .NET configurati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owever: Must explicitly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motingConfiguration.Configure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“filename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most details of Remoting show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ff"/>
                </a:solidFill>
                <a:latin typeface="Arial Narrow"/>
              </a:rPr>
              <a:t>Server System Configura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1309680"/>
            <a:ext cx="853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ystem.runtime.remoting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channel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hannel id="http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type="System.Runtime.Remoting.Channels.Http.HttpChannel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System.Runtime.Remoting" /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/channel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channelSinkProvider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erverProvider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atter id="soap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type="System.Runtime.Remoting.Channels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SoapServerFormatterSinkProvide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System.Runtime.Remoting" /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&lt;/serverProvider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/channelSinkProvider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/system.runtime.remoting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onfiguration&gt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5219640" y="1309680"/>
            <a:ext cx="2357640" cy="714240"/>
          </a:xfrm>
          <a:prstGeom prst="wedgeRoundRectCallout">
            <a:avLst>
              <a:gd name="adj1" fmla="val -129865"/>
              <a:gd name="adj2" fmla="val 78000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lare chann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4680000" y="5378400"/>
            <a:ext cx="2357280" cy="714600"/>
          </a:xfrm>
          <a:prstGeom prst="wedgeRoundRectCallout">
            <a:avLst>
              <a:gd name="adj1" fmla="val -62662"/>
              <a:gd name="adj2" fmla="val -149777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cify formatt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ff"/>
                </a:solidFill>
                <a:latin typeface="Arial Narrow"/>
              </a:rPr>
              <a:t>Server Application Configura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1168560"/>
            <a:ext cx="7848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ystem.runtime.remoting&gt;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pplication name="MyFoo"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ervice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wellknown type="Foo, common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objectUri="Foo.soap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mode="Singleton" /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hannel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hannel ref="http“ name="MyHttpChannel" port="9000"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erverProviders&gt;     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atter ref="soap" /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erverProvider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hannel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applic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ystem.runtime.remoting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6480000" y="4257720"/>
            <a:ext cx="2357640" cy="714240"/>
          </a:xfrm>
          <a:prstGeom prst="wedgeRoundRectCallout">
            <a:avLst>
              <a:gd name="adj1" fmla="val -100236"/>
              <a:gd name="adj2" fmla="val -112888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ociate channel with applic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"/>
          <p:cNvSpPr/>
          <p:nvPr/>
        </p:nvSpPr>
        <p:spPr>
          <a:xfrm>
            <a:off x="5651640" y="2349360"/>
            <a:ext cx="2357280" cy="714600"/>
          </a:xfrm>
          <a:prstGeom prst="wedgeRoundRectCallout">
            <a:avLst>
              <a:gd name="adj1" fmla="val -71685"/>
              <a:gd name="adj2" fmla="val -51333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lare singleton service endpoi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"/>
          <p:cNvSpPr/>
          <p:nvPr/>
        </p:nvSpPr>
        <p:spPr>
          <a:xfrm>
            <a:off x="5184720" y="5373720"/>
            <a:ext cx="2357640" cy="714240"/>
          </a:xfrm>
          <a:prstGeom prst="wedgeRoundRectCallout">
            <a:avLst>
              <a:gd name="adj1" fmla="val -85083"/>
              <a:gd name="adj2" fmla="val -227333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ociate formatter with chann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5: Putting It Together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97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Attributes and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Variations of Objects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1/2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25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(never marsha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(marshal-by-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serializable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Variations of Objects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2/2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8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(marshal-by-ref, AppDomain-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 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           MarshalByRef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bound (marshal-by-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CallTrace()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 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         ContextBound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Looking Back: Remoting in COM(+)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8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Objects implement IUnknow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exploration of object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fecycle control with reference coun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COM: Object-RPC based on DCE Wir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shaling through MIDL generated Proxies/St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on: Dynamic binding through IDisp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s locally advertised i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tion "on-deman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s launched at client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s created through class fa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&amp; Interception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1/3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474920"/>
            <a:ext cx="815328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ntext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96080" y="2362320"/>
            <a:ext cx="1219320" cy="1447560"/>
          </a:xfrm>
          <a:prstGeom prst="wedgeRectCallout">
            <a:avLst>
              <a:gd name="adj1" fmla="val -408333"/>
              <a:gd name="adj2" fmla="val 91337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rces new contex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4114800"/>
            <a:ext cx="1219320" cy="1066680"/>
          </a:xfrm>
          <a:prstGeom prst="wedgeRectCallout">
            <a:avLst>
              <a:gd name="adj1" fmla="val -262240"/>
              <a:gd name="adj2" fmla="val 11101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 proper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2057400"/>
            <a:ext cx="83818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blic class CallTraceAttribute :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ContextAttribu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public CallTraceAttribute()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base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"CallTraceAttribute"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public override bool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IsContextOK(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text ctx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IConstructionCallMessage ctorMsg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return fal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public override void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GetPropertiesForNewContext(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IConstructionCallMessage ctorMsg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CallTraceProperty prop = new CallTraceProperty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ctorMsg.ContextProperties.Add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p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}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696080" y="4267080"/>
            <a:ext cx="1219320" cy="1143000"/>
          </a:xfrm>
          <a:prstGeom prst="wedgeRectCallout">
            <a:avLst>
              <a:gd name="adj1" fmla="val -247657"/>
              <a:gd name="adj2" fmla="val 64305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s sink on runtime reques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&amp; Interception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2/3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474920"/>
            <a:ext cx="815328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ntext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2057400"/>
            <a:ext cx="838188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blic class CallTraceProperty :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IContextProperty,</a:t>
            </a:r>
            <a:br>
              <a:rPr sz="1600"/>
            </a:b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                                 </a:t>
            </a:r>
            <a:r>
              <a:rPr b="1" lang="en-US" sz="1600" spc="-1" strike="noStrike">
                <a:solidFill>
                  <a:srgbClr val="a50021"/>
                </a:solidFill>
                <a:latin typeface="Lucida Console"/>
              </a:rPr>
              <a:t>IContributeServerContextSink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String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Name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get {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return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"CallTraceProperty"; }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virtual bool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IsNewContextOK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Context newCtx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true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virtual void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Freez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Context newContext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Sink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Get</a:t>
            </a: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ServerContext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Sink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IMessageSink next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new 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CallTraceObjec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Sink(this, next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}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7696080" y="2705040"/>
            <a:ext cx="1219320" cy="1447920"/>
          </a:xfrm>
          <a:prstGeom prst="wedgeRectCallout">
            <a:avLst>
              <a:gd name="adj1" fmla="val -403907"/>
              <a:gd name="adj2" fmla="val 44736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ed props check contex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&amp; Interception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3/3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1760" y="1474920"/>
            <a:ext cx="732132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Message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965240"/>
            <a:ext cx="838224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class CallTraceObjectSink :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IMessageSink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rivate IMessageSink _nextSink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CallTraceObjectSink(CallTraceProperty prop,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IMessageSink nextSink)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_nextSink = nextSink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SyncProcessMessag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IMessage reqMsg)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foreach( object o in reqMsg.Properties)</a:t>
            </a: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       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Console.WriteLine(o);</a:t>
            </a: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_nextSink.SyncProcessMessage(reqMsg)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Ctrl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AsyncProcessMessag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IMessage reqMsg,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IMessageSink reply)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oreach( object o in reqMsg.Properties)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Console.WriteLine(o);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_nextSink.AsyncProcessMessage(reqMsg, reply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Sink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NextSink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{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get {return _nextSink;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7643880" y="1571760"/>
            <a:ext cx="1218960" cy="1447560"/>
          </a:xfrm>
          <a:prstGeom prst="wedgeRectCallout">
            <a:avLst>
              <a:gd name="adj1" fmla="val -308333"/>
              <a:gd name="adj2" fmla="val 12445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mps content of IMessage for each c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3276720"/>
            <a:ext cx="1218960" cy="1447560"/>
          </a:xfrm>
          <a:prstGeom prst="wedgeRectCallout">
            <a:avLst>
              <a:gd name="adj1" fmla="val -377995"/>
              <a:gd name="adj2" fmla="val 3026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xt sink receives control thereaf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ummary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8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is open-standards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supporting SOAP, XML and 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rastructure is extensible at eve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and useable on every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Contexts build on the COM+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but make contexts available for your ext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riven behaviors can be built on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to separate plumbing from business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is configurable at instal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and on an applicatio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Questions?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What’s wrong with that?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474920"/>
            <a:ext cx="7321680" cy="497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OM protocol is binary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difficult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ource of memory leaks for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ed operation require "pinging"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ing is non-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is difficult to manage; registration clum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paradigm has component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locate and connect active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oriented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work well on th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200400"/>
            <a:ext cx="2133720" cy="11430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bServic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600200"/>
            <a:ext cx="2133720" cy="11430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ding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600200"/>
            <a:ext cx="1905120" cy="12193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.NE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uilding Block Services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“Hailstorm“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NET Remoting Core Concep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457200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ederated Servic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49400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5" name="" descr="Passport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1523880"/>
            <a:ext cx="1295280" cy="4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Microsoft bCentr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1981080"/>
            <a:ext cx="1295280" cy="4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28600" y="31240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5812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0384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952880"/>
            <a:ext cx="1904760" cy="12193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.NE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terprise Serv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257800"/>
            <a:ext cx="1447920" cy="60948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zTal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572000"/>
            <a:ext cx="1447920" cy="60948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943600"/>
            <a:ext cx="1447920" cy="60948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chang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Stor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>
            <a:hlinkClick r:id="rId5"/>
          </p:cNvPr>
          <p:cNvPicPr/>
          <p:nvPr/>
        </p:nvPicPr>
        <p:blipFill>
          <a:blip r:embed="rId6"/>
          <a:srcRect l="0" t="0" r="57272" b="0"/>
          <a:stretch/>
        </p:blipFill>
        <p:spPr>
          <a:xfrm>
            <a:off x="6934320" y="2583000"/>
            <a:ext cx="1295280" cy="38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Cloud"/>
          <p:cNvSpPr/>
          <p:nvPr/>
        </p:nvSpPr>
        <p:spPr>
          <a:xfrm rot="16200000">
            <a:off x="2590920" y="2362320"/>
            <a:ext cx="3504960" cy="3047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Open Standard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SMTP</a:t>
            </a:r>
            <a:br>
              <a:rPr sz="2000"/>
            </a:b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657600"/>
            <a:ext cx="3505320" cy="2666880"/>
          </a:xfrm>
          <a:prstGeom prst="flowChartProcess">
            <a:avLst/>
          </a:prstGeom>
          <a:solidFill>
            <a:srgbClr val="618ff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181480"/>
            <a:ext cx="152388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ounting Organis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4343400"/>
            <a:ext cx="152388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ales Procu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181480"/>
            <a:ext cx="160020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343400"/>
            <a:ext cx="160020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38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810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4382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1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" name=""/>
          <p:cNvCxnSpPr>
            <a:stCxn id="125" idx="0"/>
            <a:endCxn id="126" idx="2"/>
          </p:cNvCxnSpPr>
          <p:nvPr/>
        </p:nvCxnSpPr>
        <p:spPr>
          <a:xfrm flipV="1">
            <a:off x="7162560" y="2513880"/>
            <a:ext cx="1080" cy="2896200"/>
          </a:xfrm>
          <a:prstGeom prst="straightConnector1">
            <a:avLst/>
          </a:prstGeom>
          <a:ln w="57240">
            <a:solidFill>
              <a:srgbClr val="a50021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591240" y="2895480"/>
            <a:ext cx="1143000" cy="2057400"/>
          </a:xfrm>
          <a:prstGeom prst="flowChartAlternate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Messages – RPC is not al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60020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609480" cy="40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541008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160020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41008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0" y="3962520"/>
            <a:ext cx="609480" cy="40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934320" y="4114800"/>
            <a:ext cx="609480" cy="40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10280" y="426708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086600" y="4419720"/>
            <a:ext cx="609480" cy="40320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>
            <a:stCxn id="131" idx="0"/>
            <a:endCxn id="129" idx="2"/>
          </p:cNvCxnSpPr>
          <p:nvPr/>
        </p:nvCxnSpPr>
        <p:spPr>
          <a:xfrm flipV="1">
            <a:off x="1980720" y="2513880"/>
            <a:ext cx="1080" cy="2896200"/>
          </a:xfrm>
          <a:prstGeom prst="straightConnector1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676520" y="3787920"/>
            <a:ext cx="609480" cy="403200"/>
          </a:xfrm>
          <a:prstGeom prst="rect">
            <a:avLst/>
          </a:prstGeom>
          <a:ln w="0">
            <a:noFill/>
          </a:ln>
        </p:spPr>
      </p:pic>
      <p:cxnSp>
        <p:nvCxnSpPr>
          <p:cNvPr id="139" name=""/>
          <p:cNvCxnSpPr/>
          <p:nvPr/>
        </p:nvCxnSpPr>
        <p:spPr>
          <a:xfrm flipH="1">
            <a:off x="2895120" y="563832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>
            <a:off x="2895120" y="609552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headEnd len="med" type="triangle" w="med"/>
          </a:ln>
        </p:spPr>
      </p:cxnSp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4267080" y="586728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267080" y="5410080"/>
            <a:ext cx="609840" cy="40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74320" y="472428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directiona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 c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2366640" y="36259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directiona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 c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3429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ex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6" name=""/>
          <p:cNvCxnSpPr/>
          <p:nvPr/>
        </p:nvCxnSpPr>
        <p:spPr>
          <a:xfrm flipH="1">
            <a:off x="2895120" y="182844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H="1">
            <a:off x="2895120" y="228564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headEnd len="med" type="triangle" w="med"/>
          </a:ln>
        </p:spPr>
      </p:cxn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4267080" y="205740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4267080" y="1600200"/>
            <a:ext cx="609840" cy="40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93080" y="91440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directiona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ex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Application Domain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474920"/>
            <a:ext cx="7321680" cy="97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execution space fo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OS concept of thread,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895480"/>
            <a:ext cx="4724280" cy="3276720"/>
          </a:xfrm>
          <a:prstGeom prst="roundRect">
            <a:avLst>
              <a:gd name="adj" fmla="val 16667"/>
            </a:avLst>
          </a:pr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2819520"/>
            <a:ext cx="2666880" cy="327636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276360"/>
              <a:gd name="textAreaBottom" fmla="*/ 3146400 h 3276360"/>
            </a:gdLst>
            <a:ahLst/>
            <a:rect l="textAreaLeft" t="textAreaTop" r="textAreaRight" b="textAreaBottom"/>
            <a:pathLst>
              <a:path w="21600" h="26536">
                <a:moveTo>
                  <a:pt x="3600" y="0"/>
                </a:moveTo>
                <a:arcTo wR="3600" hR="3600" stAng="16200000" swAng="-5400000"/>
                <a:lnTo>
                  <a:pt x="0" y="22936"/>
                </a:lnTo>
                <a:arcTo wR="3600" hR="3600" stAng="10800000" swAng="-5400000"/>
                <a:lnTo>
                  <a:pt x="18000" y="26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429000"/>
            <a:ext cx="1905120" cy="22096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Dom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3429000"/>
            <a:ext cx="1905120" cy="21337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Dom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429000"/>
            <a:ext cx="1905120" cy="22096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Dom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962520"/>
            <a:ext cx="83808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3962520"/>
            <a:ext cx="83808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724280"/>
            <a:ext cx="838080" cy="60984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876920"/>
            <a:ext cx="83808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876920"/>
            <a:ext cx="83844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3" name=""/>
          <p:cNvCxnSpPr>
            <a:stCxn id="158" idx="1"/>
            <a:endCxn id="160" idx="1"/>
          </p:cNvCxnSpPr>
          <p:nvPr/>
        </p:nvCxnSpPr>
        <p:spPr>
          <a:xfrm flipH="1" flipV="1" rot="10800000">
            <a:off x="1342080" y="4266000"/>
            <a:ext cx="229320" cy="762840"/>
          </a:xfrm>
          <a:prstGeom prst="curvedConnector5">
            <a:avLst>
              <a:gd name="adj1" fmla="val -87421"/>
              <a:gd name="adj2" fmla="val 50000"/>
              <a:gd name="adj3" fmla="val -87421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64" name=""/>
          <p:cNvCxnSpPr>
            <a:stCxn id="159" idx="3"/>
            <a:endCxn id="162" idx="1"/>
          </p:cNvCxnSpPr>
          <p:nvPr/>
        </p:nvCxnSpPr>
        <p:spPr>
          <a:xfrm flipH="1">
            <a:off x="3552120" y="4267080"/>
            <a:ext cx="819720" cy="915120"/>
          </a:xfrm>
          <a:prstGeom prst="curvedConnector5">
            <a:avLst>
              <a:gd name="adj1" fmla="val -24384"/>
              <a:gd name="adj2" fmla="val 24990"/>
              <a:gd name="adj3" fmla="val -24384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65" name=""/>
          <p:cNvCxnSpPr>
            <a:stCxn id="158" idx="3"/>
            <a:endCxn id="159" idx="1"/>
          </p:cNvCxnSpPr>
          <p:nvPr/>
        </p:nvCxnSpPr>
        <p:spPr>
          <a:xfrm>
            <a:off x="2238120" y="4266720"/>
            <a:ext cx="1238760" cy="10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41680" y="4114800"/>
            <a:ext cx="457200" cy="303120"/>
          </a:xfrm>
          <a:prstGeom prst="rect">
            <a:avLst/>
          </a:prstGeom>
          <a:ln w="0">
            <a:noFill/>
          </a:ln>
        </p:spPr>
      </p:pic>
      <p:cxnSp>
        <p:nvCxnSpPr>
          <p:cNvPr id="167" name=""/>
          <p:cNvCxnSpPr>
            <a:stCxn id="162" idx="3"/>
            <a:endCxn id="161" idx="1"/>
          </p:cNvCxnSpPr>
          <p:nvPr/>
        </p:nvCxnSpPr>
        <p:spPr>
          <a:xfrm>
            <a:off x="4448160" y="5181120"/>
            <a:ext cx="1696320" cy="10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05520" y="5029200"/>
            <a:ext cx="457200" cy="30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6:37:16Z</dcterms:created>
  <dc:creator>Clemens F. Vasters</dc:creator>
  <dc:description>.net Developer Tools Readiness Kit
Module "Context and Remoting"
by Clemens F. Vasters
Final touchup by Udo Riedel.</dc:description>
  <dc:language>en-US</dc:language>
  <cp:lastModifiedBy>Clemens F. Vasters</cp:lastModifiedBy>
  <dcterms:modified xsi:type="dcterms:W3CDTF">2001-07-10T08:59:08Z</dcterms:modified>
  <cp:revision>156</cp:revision>
  <dc:subject>.net Developer Tools Readiness Kit</dc:subject>
  <dc:title>Context and Remoting</dc:title>
</cp:coreProperties>
</file>